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6.jpeg" ContentType="image/jpeg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media/image10.wmf" ContentType="image/x-wmf"/>
  <Override PartName="/ppt/media/image4.jpeg" ContentType="image/jpeg"/>
  <Override PartName="/ppt/media/image6.wmf" ContentType="image/x-wmf"/>
  <Override PartName="/ppt/media/image11.wmf" ContentType="image/x-wmf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9AF3-E1D3-4C11-A3DC-F2A9E3984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185C-E04D-488B-981E-E7B9BEFBD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E4A6-CD33-4C05-9123-E300A3905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24CF-E031-4C76-8046-8D662F3EA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CE3BAF-9031-4295-80D7-5895DCDEA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5FA28F-768D-4A03-8028-15300457A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F5293D-87E7-446E-8537-0B9475E4E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06C80E-1EFB-42A1-901C-1F1F27B47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125EB0-5E0E-4683-AEFE-DB518DEC7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86E31F-DB16-4C5F-A3CD-96B754AB1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358452-B9FE-48F0-8E85-2AA05482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5587-3CA4-4A29-B758-1F4A7D1C5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D24646-683D-4199-B41A-9741F94F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2436EA-84BC-4D7F-B68B-3B2EF91A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549418-738E-476C-803E-4EB4A7939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D150AB-662D-46CC-B341-00B46FAF1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F10A5A-46EF-47AA-9BF4-245B7E959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C804-8884-4F4D-9B2C-E44F5CF61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C797-5D9A-498D-94CC-8BE8B265D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2CA9-6FC6-4B3E-A509-7D43B57E2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4AF4-BAF0-49D2-87DC-A0F2413B2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B46F-B9F6-41E3-A634-6704F0DE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4B8B-C863-4F48-A159-DDE91EAF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C610-01CE-4B4E-A207-BEA4B5F3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58902-2561-467B-9AE5-693CE264255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71124-387A-423E-A444-A6A872EE586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MSj00750620000%5B1%5D.wav" TargetMode="External"/><Relationship Id="rId2" Type="http://schemas.microsoft.com/office/2007/relationships/media" Target="file:///tmp/home/.config/libreoffice/4/user/gallery/MSj00750620000%5B1%5D.wav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jpe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Genetics-</a:t>
            </a: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udy of Hered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Recessive Trait-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form of a gene that is not fully expressed when two different alleles are presen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is an allele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distinct form of a tra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ll or Sh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rple or Wh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rly or Stra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638680" y="1523880"/>
            <a:ext cx="206532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6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1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8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2" dur="1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6" dur="2000" fill="hold"/>
                                        <p:tgtEl>
                                          <p:spTgt spid="1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ow do we represent alleles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minant trait- upper case le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. B, R, T, 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essive trait- lower case le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. b, r, t, 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2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8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8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" dur="8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Genes affect traits…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nes are sections of a chromosome that code for a trai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257800" y="3733920"/>
            <a:ext cx="1325520" cy="19810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295280" y="3048120"/>
            <a:ext cx="1793880" cy="25146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7543800" y="914400"/>
            <a:ext cx="121932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6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enotype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genetic makeup of an organis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enotype of a pea plant that is purebred for yellow peas would be written – Y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enotype of a pea plant that is hybrid for yellow peas would be written – Y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Key: Y- yell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 - gre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3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1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2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9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6" dur="8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7" dur="8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8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9" dur="8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henotype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outward expression of the trai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we se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way an organism looks and behav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Y &amp; Yy would show yellow pe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y would show green pea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5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8000"/>
                            </p:stCondLst>
                            <p:childTnLst>
                              <p:par>
                                <p:cTn id="48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1800"/>
                            </p:stCondLst>
                            <p:childTnLst>
                              <p:par>
                                <p:cTn id="49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20000"/>
                            </p:stCondLst>
                            <p:childTnLst>
                              <p:par>
                                <p:cTn id="49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6600"/>
                            </p:stCondLst>
                            <p:childTnLst>
                              <p:par>
                                <p:cTn id="50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Homozygous-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wo alleles in a gene pair are identical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Y, yy, BB, bb, TT, t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2" dur="2000" fill="hold"/>
                                        <p:tgtEl>
                                          <p:spTgt spid="1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7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2" dur="2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Heterozygous-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wo alleles in a gene pair are different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Yy, Bb, Tt, R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endel’s Laws- basic rules of inheritance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#1 The law of segregation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Gene pairs separate when gametes for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mete- sex cell, sperm &amp; eg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aw #2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aw of independent assortment-  traits are inherited independent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means, just because you have blonde hair does not mean you will have blue ey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Domestication of dogs may have been one of the earliest human experiments with genetics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mestic dogs came from wild wolve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95680" y="3505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828800" y="3581280"/>
            <a:ext cx="2286000" cy="22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4334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26"/>
                </p:tgtEl>
              </p:cMediaNode>
            </p:audio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aw #3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w of dominance -  the dominant allele is expressed and the recessive allele can be hidd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iploid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 with 2 of each kind of chromoso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ell has the entire set of chromosom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8" dur="2000" fill="hold"/>
                                        <p:tgtEl>
                                          <p:spTgt spid="1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aploid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 with 1 of each kind of chromoso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 has half the number of chromosom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lves with distinct traits were bred to eventually lead to a new breed – the domestic do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 of tra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mpera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se of sm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410080" y="2057400"/>
            <a:ext cx="1676520" cy="12574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715000" y="457200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4267080" y="3657600"/>
            <a:ext cx="1171800" cy="13748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7238880" y="3276720"/>
            <a:ext cx="137160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rait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acteristic that can be passed from parent to offspr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90720" y="3657600"/>
            <a:ext cx="1892160" cy="19209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276720" y="2971800"/>
            <a:ext cx="1854000" cy="16668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5791320" y="4343400"/>
            <a:ext cx="1815840" cy="16002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6095880" y="2819520"/>
            <a:ext cx="199404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6" dur="2000" fill="hold"/>
                                        <p:tgtEl>
                                          <p:spTgt spid="1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0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3" dur="2000" fill="hold"/>
                                        <p:tgtEl>
                                          <p:spTgt spid="13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regor Mendel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me up with one of the first clues to understanding inherita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strian mo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gan his work in 1860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d the garden pea pl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ed for more than 8 years on his experi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629400" y="2133720"/>
            <a:ext cx="17683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Reasons Mendel Chose the Garden Pea Plant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ructure of the pea plan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esence of 7 distinctive trait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apid reproductive cycle - 90 day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38080" y="3581280"/>
            <a:ext cx="2057400" cy="20066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705720" y="3733920"/>
            <a:ext cx="1703160" cy="21304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6858000" y="762120"/>
            <a:ext cx="198108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urebred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 organism that receives the same genetic traits from both of its parent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36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37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ybrid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 organism that receives different forms of a genetic trait from each paren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TT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1" dur="2000" fill="hold"/>
                                        <p:tgtEl>
                                          <p:spTgt spid="1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Dominant Trait-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form of a gene that is fully expressed when two different alleles are presen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B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2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13:38:31Z</dcterms:created>
  <dc:creator>Clear Creek ISD</dc:creator>
  <dc:description/>
  <dc:language>en-US</dc:language>
  <cp:lastModifiedBy>Clear Creek ISD</cp:lastModifiedBy>
  <dcterms:modified xsi:type="dcterms:W3CDTF">2010-01-05T20:38:15Z</dcterms:modified>
  <cp:revision>10</cp:revision>
  <dc:subject/>
  <dc:title>Genetics </dc:title>
</cp:coreProperties>
</file>